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C7BF-FCEF-4ECC-B399-F8817FEC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 going from a shared exon range to a non-shared exon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s a bunch of lookup queries as well not included here. Also an exon range change can very possible trigger a transcript &amp; gene range change - not shown here(there would be Apollo transactions for that as wel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clear why its hard to go from Chado transactions to Apollo transactions - how can you tell which Chado transactions get lumped into an Apollo transaction? Theres no way to add anything to Chado transactions to indicate as much (no compound transac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rducing compound transaction concept as well with 1 edit to 2 Apollo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oute is not being used or tested (an abandoned rice rou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actually implementing this strategy for rice/gmod, but Guanming recoginized it was pretty easy given the Chado transaction to just write out sql and do jdbc write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theless for debugging purposes the Chado transaction xml is really h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act Chado xml transactions and Chado sql and java Chado transactions are all just different manifestations of an operation on a Chado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ested &amp; debugged for rice Chado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've fixed a lot of bugs here - its in pretty good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name adapter gets a gene name edit and then changes the names of transcripts, proteins and ex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undo purposes name transactions are lumped into one compound transaction(covered in next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dapter slide is an example of an edit that causes a compound transaction - gene name edit causes transcript exon &amp; protein names to be chan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use the Command design pattern - which yields 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re assuming all of you in the audience are familiar with Apollo, GMOD’s annotation curation 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browse: view annotations (as GIF in web p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: view, edit, create annotations based on computational results; lets you modify transcript structures and edit auxiliary information associated with anno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is a Java application.  Easy to install on your compu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with the jdbc reader is to become fully configurable, so you don’t have to write java to configure (similar to name adap go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game.dtd is inaccurate and should be ignored—use game.rng inst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alking through this slide, mention that Mark will discuss the first two points and then Nomi will talk about the ChadoXML adapter, recent minor improvements and future pl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more feedback from the Apollo community about what they’d like to see in Apollo—talk to us or send us em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e action -&gt; many trans is the motivation for compound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pretty good but not perfect yet… some redundant edits still get through - not the end of the world just means a few extra commits to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Have to coalesce at commit time not during editing session for undo to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56D-384A-4A39-A6EC-22CA9E83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4A5D-0391-4E90-9D6B-038A7F72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EDA-B773-4346-B89F-300E75D4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871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D192-A2EF-44B6-BAF3-2BFDC552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175-A2E5-43D5-9C6C-0B5DE80E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AB2-2993-497B-BCFB-360E9640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6CA-5E4B-4CB7-ACC3-6EE155C2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F30-AA12-44B1-AD82-ACE1AF1C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C83-D26E-4D57-A59E-106A488F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A01-69E2-4422-8594-B371D155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871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4A3-63BC-4A1D-A805-4EBB25A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871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234-EDCD-4BEF-A0C7-C98C10F4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4E5-0F56-4D76-9231-296698F42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pollo Progress Report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 Harris and Mark Gibson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eley Drosophila Genom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57913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OD Meeting, S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6-17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im save for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transactions in separate xml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 &amp; Chado XML adapters sav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accompanying data 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79064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31" idx="6"/>
            <a:endCxn id="132" idx="1"/>
          </p:cNvCxnSpPr>
          <p:nvPr/>
        </p:nvCxnSpPr>
        <p:spPr>
          <a:xfrm>
            <a:off x="5105520" y="213336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886200" y="1676520"/>
            <a:ext cx="1219320" cy="9144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9" idx="3"/>
            <a:endCxn id="131" idx="2"/>
          </p:cNvCxnSpPr>
          <p:nvPr/>
        </p:nvCxnSpPr>
        <p:spPr>
          <a:xfrm>
            <a:off x="3123720" y="2133360"/>
            <a:ext cx="762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019920" y="1714680"/>
            <a:ext cx="1523880" cy="8380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Apollo Transaction to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166860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17064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17064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37" idx="3"/>
            <a:endCxn id="136" idx="2"/>
          </p:cNvCxnSpPr>
          <p:nvPr/>
        </p:nvCxnSpPr>
        <p:spPr>
          <a:xfrm>
            <a:off x="33523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6" idx="6"/>
            <a:endCxn id="138" idx="1"/>
          </p:cNvCxnSpPr>
          <p:nvPr/>
        </p:nvCxnSpPr>
        <p:spPr>
          <a:xfrm>
            <a:off x="5181120" y="2049120"/>
            <a:ext cx="686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257800" y="2362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n Range Chang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user edit to many Apollo trans. (compou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Apollo transactions to many Chado t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exons are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 lookups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1828800"/>
            <a:ext cx="1523880" cy="8380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1480" y="2666880"/>
            <a:ext cx="1371600" cy="8384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 E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0" y="21337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1219320"/>
            <a:ext cx="1371600" cy="76176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 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3"/>
            <a:endCxn id="149" idx="2"/>
          </p:cNvCxnSpPr>
          <p:nvPr/>
        </p:nvCxnSpPr>
        <p:spPr>
          <a:xfrm>
            <a:off x="3352320" y="2247840"/>
            <a:ext cx="229320" cy="115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6"/>
            <a:endCxn id="146" idx="1"/>
          </p:cNvCxnSpPr>
          <p:nvPr/>
        </p:nvCxnSpPr>
        <p:spPr>
          <a:xfrm flipV="1">
            <a:off x="4724280" y="1599480"/>
            <a:ext cx="1982160" cy="762840"/>
          </a:xfrm>
          <a:prstGeom prst="curvedConnector5">
            <a:avLst>
              <a:gd name="adj1" fmla="val 83560"/>
              <a:gd name="adj2" fmla="val 50000"/>
              <a:gd name="adj3" fmla="val 835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6"/>
            <a:endCxn id="148" idx="1"/>
          </p:cNvCxnSpPr>
          <p:nvPr/>
        </p:nvCxnSpPr>
        <p:spPr>
          <a:xfrm flipV="1">
            <a:off x="4724280" y="1599480"/>
            <a:ext cx="153360" cy="76284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9" idx="6"/>
            <a:endCxn id="147" idx="1"/>
          </p:cNvCxnSpPr>
          <p:nvPr/>
        </p:nvCxnSpPr>
        <p:spPr>
          <a:xfrm>
            <a:off x="4723920" y="2361960"/>
            <a:ext cx="213444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9" idx="6"/>
            <a:endCxn id="145" idx="1"/>
          </p:cNvCxnSpPr>
          <p:nvPr/>
        </p:nvCxnSpPr>
        <p:spPr>
          <a:xfrm>
            <a:off x="4724280" y="2361960"/>
            <a:ext cx="457920" cy="72468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57200" y="2057400"/>
            <a:ext cx="1066680" cy="9144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on R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3200400"/>
            <a:ext cx="1600200" cy="9144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cri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 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2767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44" idx="1"/>
          </p:cNvCxnSpPr>
          <p:nvPr/>
        </p:nvCxnSpPr>
        <p:spPr>
          <a:xfrm flipV="1">
            <a:off x="1523520" y="2247480"/>
            <a:ext cx="305640" cy="267120"/>
          </a:xfrm>
          <a:prstGeom prst="curvedConnector5">
            <a:avLst>
              <a:gd name="adj1" fmla="val 50000"/>
              <a:gd name="adj2" fmla="val 4993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5" idx="3"/>
            <a:endCxn id="156" idx="1"/>
          </p:cNvCxnSpPr>
          <p:nvPr/>
        </p:nvCxnSpPr>
        <p:spPr>
          <a:xfrm>
            <a:off x="1523520" y="2514240"/>
            <a:ext cx="3056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6" idx="3"/>
            <a:endCxn id="157" idx="2"/>
          </p:cNvCxnSpPr>
          <p:nvPr/>
        </p:nvCxnSpPr>
        <p:spPr>
          <a:xfrm>
            <a:off x="3428640" y="3657240"/>
            <a:ext cx="30564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7" idx="6"/>
          </p:cNvCxnSpPr>
          <p:nvPr/>
        </p:nvCxnSpPr>
        <p:spPr>
          <a:xfrm>
            <a:off x="4876920" y="365760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334120" y="3733920"/>
            <a:ext cx="137160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tureL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7" idx="3"/>
            <a:endCxn id="169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0" name=""/>
          <p:cNvCxnSpPr>
            <a:stCxn id="165" idx="3"/>
            <a:endCxn id="166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1" name=""/>
          <p:cNvCxnSpPr>
            <a:stCxn id="166" idx="6"/>
            <a:endCxn id="167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3" idx="0"/>
            <a:endCxn id="174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>
            <a:stCxn id="176" idx="6"/>
            <a:endCxn id="167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8" name=""/>
          <p:cNvCxnSpPr>
            <a:stCxn id="173" idx="1"/>
            <a:endCxn id="173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9" name=""/>
          <p:cNvCxnSpPr>
            <a:stCxn id="173" idx="3"/>
            <a:endCxn id="176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80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173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73" idx="4"/>
            <a:endCxn id="182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4" name=""/>
          <p:cNvCxnSpPr>
            <a:stCxn id="182" idx="6"/>
            <a:endCxn id="185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endCxn id="175" idx="2"/>
          </p:cNvCxnSpPr>
          <p:nvPr/>
        </p:nvCxnSpPr>
        <p:spPr>
          <a:xfrm>
            <a:off x="990720" y="4572000"/>
            <a:ext cx="276912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7" name=""/>
          <p:cNvCxnSpPr>
            <a:stCxn id="175" idx="6"/>
            <a:endCxn id="164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0"/>
            <a:endCxn id="169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65" idx="1"/>
            <a:endCxn id="174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0" name=""/>
          <p:cNvCxnSpPr>
            <a:stCxn id="169" idx="4"/>
            <a:endCxn id="164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Transaction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792520"/>
            <a:ext cx="777240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transaction object gets written out as Chado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ORT commits XM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86696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182880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T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 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3" idx="3"/>
            <a:endCxn id="195" idx="2"/>
          </p:cNvCxnSpPr>
          <p:nvPr/>
        </p:nvCxnSpPr>
        <p:spPr>
          <a:xfrm>
            <a:off x="1904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5" idx="6"/>
            <a:endCxn id="198" idx="1"/>
          </p:cNvCxnSpPr>
          <p:nvPr/>
        </p:nvCxnSpPr>
        <p:spPr>
          <a:xfrm>
            <a:off x="3581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8" idx="3"/>
          </p:cNvCxnSpPr>
          <p:nvPr/>
        </p:nvCxnSpPr>
        <p:spPr>
          <a:xfrm>
            <a:off x="5333760" y="22093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4" idx="6"/>
            <a:endCxn id="201" idx="2"/>
          </p:cNvCxnSpPr>
          <p:nvPr/>
        </p:nvCxnSpPr>
        <p:spPr>
          <a:xfrm>
            <a:off x="7010280" y="2209320"/>
            <a:ext cx="610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8461440" y="1652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0120" y="186696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75248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9" idx="3"/>
            <a:endCxn id="21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2" name=""/>
          <p:cNvCxnSpPr>
            <a:stCxn id="207" idx="3"/>
            <a:endCxn id="20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3" name=""/>
          <p:cNvCxnSpPr>
            <a:stCxn id="208" idx="6"/>
            <a:endCxn id="20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215" idx="0"/>
            <a:endCxn id="216" idx="4"/>
          </p:cNvCxnSpPr>
          <p:nvPr/>
        </p:nvCxnSpPr>
        <p:spPr>
          <a:xfrm flipV="1">
            <a:off x="990360" y="2534760"/>
            <a:ext cx="10044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>
            <a:stCxn id="218" idx="6"/>
            <a:endCxn id="20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" name=""/>
          <p:cNvCxnSpPr>
            <a:stCxn id="215" idx="1"/>
            <a:endCxn id="215" idx="2"/>
          </p:cNvCxnSpPr>
          <p:nvPr/>
        </p:nvCxnSpPr>
        <p:spPr>
          <a:xfrm>
            <a:off x="175212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" name=""/>
          <p:cNvCxnSpPr>
            <a:stCxn id="215" idx="3"/>
            <a:endCxn id="218" idx="2"/>
          </p:cNvCxnSpPr>
          <p:nvPr/>
        </p:nvCxnSpPr>
        <p:spPr>
          <a:xfrm flipV="1">
            <a:off x="1752120" y="3325320"/>
            <a:ext cx="186948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22" name=""/>
          <p:cNvGrpSpPr/>
          <p:nvPr/>
        </p:nvGrpSpPr>
        <p:grpSpPr>
          <a:xfrm>
            <a:off x="228600" y="3456000"/>
            <a:ext cx="1523880" cy="1066680"/>
            <a:chOff x="228600" y="3456000"/>
            <a:chExt cx="1523880" cy="1066680"/>
          </a:xfrm>
        </p:grpSpPr>
        <p:sp>
          <p:nvSpPr>
            <p:cNvPr id="215" name=""/>
            <p:cNvSpPr/>
            <p:nvPr/>
          </p:nvSpPr>
          <p:spPr>
            <a:xfrm>
              <a:off x="22860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92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5" idx="4"/>
            <a:endCxn id="224" idx="2"/>
          </p:cNvCxnSpPr>
          <p:nvPr/>
        </p:nvCxnSpPr>
        <p:spPr>
          <a:xfrm>
            <a:off x="1752120" y="3989520"/>
            <a:ext cx="168372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6" name=""/>
          <p:cNvCxnSpPr>
            <a:stCxn id="224" idx="6"/>
            <a:endCxn id="22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endCxn id="217" idx="2"/>
          </p:cNvCxnSpPr>
          <p:nvPr/>
        </p:nvCxnSpPr>
        <p:spPr>
          <a:xfrm>
            <a:off x="914400" y="4572000"/>
            <a:ext cx="2845440" cy="141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9" name=""/>
          <p:cNvCxnSpPr>
            <a:stCxn id="217" idx="6"/>
            <a:endCxn id="20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7" idx="0"/>
            <a:endCxn id="21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07" idx="1"/>
            <a:endCxn id="21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2" name=""/>
          <p:cNvCxnSpPr>
            <a:stCxn id="211" idx="4"/>
            <a:endCxn id="20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97612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TransactionWriter creates SQL from Chado Trans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DBC commits SQL to Chado 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Chado project will use this (in testing 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7684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ja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20192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6" idx="3"/>
            <a:endCxn id="239" idx="2"/>
          </p:cNvCxnSpPr>
          <p:nvPr/>
        </p:nvCxnSpPr>
        <p:spPr>
          <a:xfrm>
            <a:off x="1676160" y="2361960"/>
            <a:ext cx="64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3"/>
            <a:endCxn id="235" idx="2"/>
          </p:cNvCxnSpPr>
          <p:nvPr/>
        </p:nvCxnSpPr>
        <p:spPr>
          <a:xfrm>
            <a:off x="510516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42" idx="2"/>
          </p:cNvCxnSpPr>
          <p:nvPr/>
        </p:nvCxnSpPr>
        <p:spPr>
          <a:xfrm>
            <a:off x="6819840" y="2361960"/>
            <a:ext cx="572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9" name=""/>
          <p:cNvSpPr/>
          <p:nvPr/>
        </p:nvSpPr>
        <p:spPr>
          <a:xfrm>
            <a:off x="2324160" y="19810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DBC Tr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9" idx="6"/>
            <a:endCxn id="237" idx="1"/>
          </p:cNvCxnSpPr>
          <p:nvPr/>
        </p:nvCxnSpPr>
        <p:spPr>
          <a:xfrm>
            <a:off x="3466800" y="2361960"/>
            <a:ext cx="572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7391520" y="201924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Ad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adapters capture MOD specific behavior for IDs and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dits affect names &amp; ID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erge, split, …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&amp; Fly have their own name adap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it from new generic GMOD name ad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182880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182880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1828800" y="2171520"/>
            <a:ext cx="534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46" idx="6"/>
            <a:endCxn id="251" idx="1"/>
          </p:cNvCxnSpPr>
          <p:nvPr/>
        </p:nvCxnSpPr>
        <p:spPr>
          <a:xfrm>
            <a:off x="3504960" y="2171520"/>
            <a:ext cx="533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4038480" y="182880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1" idx="3"/>
            <a:endCxn id="253" idx="2"/>
          </p:cNvCxnSpPr>
          <p:nvPr/>
        </p:nvCxnSpPr>
        <p:spPr>
          <a:xfrm>
            <a:off x="51055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3" name=""/>
          <p:cNvSpPr/>
          <p:nvPr/>
        </p:nvSpPr>
        <p:spPr>
          <a:xfrm>
            <a:off x="5562720" y="179064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3" idx="6"/>
            <a:endCxn id="248" idx="1"/>
          </p:cNvCxnSpPr>
          <p:nvPr/>
        </p:nvCxnSpPr>
        <p:spPr>
          <a:xfrm>
            <a:off x="6705720" y="21715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d by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Transactions for compound events (name change, split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al implementation (only in Annotation Info Edi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1752480"/>
            <a:ext cx="1143000" cy="7621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790640"/>
            <a:ext cx="106704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9064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8" idx="3"/>
            <a:endCxn id="257" idx="2"/>
          </p:cNvCxnSpPr>
          <p:nvPr/>
        </p:nvCxnSpPr>
        <p:spPr>
          <a:xfrm>
            <a:off x="327636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7" idx="6"/>
            <a:endCxn id="259" idx="1"/>
          </p:cNvCxnSpPr>
          <p:nvPr/>
        </p:nvCxnSpPr>
        <p:spPr>
          <a:xfrm>
            <a:off x="5028840" y="2133360"/>
            <a:ext cx="610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669960"/>
            <a:ext cx="7772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ion Info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80504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DBC Reader Impro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figurable (XML config fi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out of range leaf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ies opt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 for reading and wri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4380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62320" y="1790640"/>
            <a:ext cx="990360" cy="60984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13120" y="1752480"/>
            <a:ext cx="1371600" cy="6858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"/>
          <p:cNvCxnSpPr>
            <a:stCxn id="272" idx="3"/>
            <a:endCxn id="274" idx="2"/>
          </p:cNvCxnSpPr>
          <p:nvPr/>
        </p:nvCxnSpPr>
        <p:spPr>
          <a:xfrm>
            <a:off x="7162560" y="3325320"/>
            <a:ext cx="572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5" name=""/>
          <p:cNvCxnSpPr>
            <a:stCxn id="270" idx="3"/>
            <a:endCxn id="271" idx="2"/>
          </p:cNvCxnSpPr>
          <p:nvPr/>
        </p:nvCxnSpPr>
        <p:spPr>
          <a:xfrm>
            <a:off x="3352320" y="2095200"/>
            <a:ext cx="461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6" name=""/>
          <p:cNvCxnSpPr>
            <a:stCxn id="271" idx="6"/>
            <a:endCxn id="272" idx="0"/>
          </p:cNvCxnSpPr>
          <p:nvPr/>
        </p:nvCxnSpPr>
        <p:spPr>
          <a:xfrm>
            <a:off x="518436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734240" y="3021120"/>
            <a:ext cx="83844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8" idx="0"/>
            <a:endCxn id="279" idx="4"/>
          </p:cNvCxnSpPr>
          <p:nvPr/>
        </p:nvCxnSpPr>
        <p:spPr>
          <a:xfrm flipV="1">
            <a:off x="1066680" y="2534760"/>
            <a:ext cx="100800" cy="105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0" name=""/>
          <p:cNvSpPr/>
          <p:nvPr/>
        </p:nvSpPr>
        <p:spPr>
          <a:xfrm>
            <a:off x="3806640" y="55274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4480" y="164124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44200" y="287172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"/>
          <p:cNvCxnSpPr>
            <a:stCxn id="281" idx="6"/>
            <a:endCxn id="272" idx="1"/>
          </p:cNvCxnSpPr>
          <p:nvPr/>
        </p:nvCxnSpPr>
        <p:spPr>
          <a:xfrm>
            <a:off x="5473800" y="3325320"/>
            <a:ext cx="69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3" name=""/>
          <p:cNvCxnSpPr>
            <a:stCxn id="278" idx="1"/>
            <a:endCxn id="278" idx="2"/>
          </p:cNvCxnSpPr>
          <p:nvPr/>
        </p:nvCxnSpPr>
        <p:spPr>
          <a:xfrm>
            <a:off x="1828440" y="39891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1" idx="2"/>
          </p:cNvCxnSpPr>
          <p:nvPr/>
        </p:nvCxnSpPr>
        <p:spPr>
          <a:xfrm flipV="1">
            <a:off x="1828800" y="3325320"/>
            <a:ext cx="1743840" cy="66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5" name=""/>
          <p:cNvGrpSpPr/>
          <p:nvPr/>
        </p:nvGrpSpPr>
        <p:grpSpPr>
          <a:xfrm>
            <a:off x="304920" y="3456000"/>
            <a:ext cx="1523880" cy="1066680"/>
            <a:chOff x="304920" y="3456000"/>
            <a:chExt cx="1523880" cy="1066680"/>
          </a:xfrm>
        </p:grpSpPr>
        <p:sp>
          <p:nvSpPr>
            <p:cNvPr id="278" name=""/>
            <p:cNvSpPr/>
            <p:nvPr/>
          </p:nvSpPr>
          <p:spPr>
            <a:xfrm>
              <a:off x="304920" y="345600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0240" y="38048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3484440" y="4232160"/>
            <a:ext cx="20289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8" idx="4"/>
            <a:endCxn id="287" idx="2"/>
          </p:cNvCxnSpPr>
          <p:nvPr/>
        </p:nvCxnSpPr>
        <p:spPr>
          <a:xfrm>
            <a:off x="1828800" y="3989520"/>
            <a:ext cx="1683360" cy="69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9" name=""/>
          <p:cNvCxnSpPr>
            <a:stCxn id="287" idx="6"/>
            <a:endCxn id="290" idx="1"/>
          </p:cNvCxnSpPr>
          <p:nvPr/>
        </p:nvCxnSpPr>
        <p:spPr>
          <a:xfrm>
            <a:off x="548640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8" idx="5"/>
            <a:endCxn id="280" idx="2"/>
          </p:cNvCxnSpPr>
          <p:nvPr/>
        </p:nvCxnSpPr>
        <p:spPr>
          <a:xfrm>
            <a:off x="1066320" y="4522320"/>
            <a:ext cx="2769480" cy="145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80" idx="6"/>
            <a:endCxn id="269" idx="2"/>
          </p:cNvCxnSpPr>
          <p:nvPr/>
        </p:nvCxnSpPr>
        <p:spPr>
          <a:xfrm>
            <a:off x="5162040" y="5981400"/>
            <a:ext cx="2382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>
            <a:off x="5943600" y="4381560"/>
            <a:ext cx="1295280" cy="60948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0" idx="0"/>
            <a:endCxn id="274" idx="3"/>
          </p:cNvCxnSpPr>
          <p:nvPr/>
        </p:nvCxnSpPr>
        <p:spPr>
          <a:xfrm flipV="1">
            <a:off x="6590880" y="3540960"/>
            <a:ext cx="12661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0" idx="1"/>
            <a:endCxn id="279" idx="6"/>
          </p:cNvCxnSpPr>
          <p:nvPr/>
        </p:nvCxnSpPr>
        <p:spPr>
          <a:xfrm flipH="1">
            <a:off x="1829880" y="2095200"/>
            <a:ext cx="53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74" idx="4"/>
            <a:endCxn id="269" idx="1"/>
          </p:cNvCxnSpPr>
          <p:nvPr/>
        </p:nvCxnSpPr>
        <p:spPr>
          <a:xfrm>
            <a:off x="815292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/write ChadoXML without G2C/C2G conver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o save annotation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exons using shared exon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non-redundant set of ex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from lowest to highest st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83040" y="1409760"/>
            <a:ext cx="841320" cy="517320"/>
          </a:xfrm>
          <a:prstGeom prst="foldedCorner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91080" y="1371600"/>
            <a:ext cx="1165320" cy="5824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92920" y="2639880"/>
            <a:ext cx="841320" cy="5176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298" idx="3"/>
            <a:endCxn id="299" idx="2"/>
          </p:cNvCxnSpPr>
          <p:nvPr/>
        </p:nvCxnSpPr>
        <p:spPr>
          <a:xfrm flipV="1">
            <a:off x="3924360" y="1663200"/>
            <a:ext cx="667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99" idx="6"/>
            <a:endCxn id="300" idx="0"/>
          </p:cNvCxnSpPr>
          <p:nvPr/>
        </p:nvCxnSpPr>
        <p:spPr>
          <a:xfrm>
            <a:off x="5756400" y="1663560"/>
            <a:ext cx="1558080" cy="97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304" idx="0"/>
            <a:endCxn id="305" idx="4"/>
          </p:cNvCxnSpPr>
          <p:nvPr/>
        </p:nvCxnSpPr>
        <p:spPr>
          <a:xfrm flipV="1">
            <a:off x="1790640" y="2088360"/>
            <a:ext cx="4824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1146240" y="1195200"/>
            <a:ext cx="1384560" cy="90828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58440" y="2425680"/>
            <a:ext cx="195768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6"/>
            <a:endCxn id="300" idx="1"/>
          </p:cNvCxnSpPr>
          <p:nvPr/>
        </p:nvCxnSpPr>
        <p:spPr>
          <a:xfrm>
            <a:off x="6188040" y="2879280"/>
            <a:ext cx="70524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304" idx="1"/>
            <a:endCxn id="304" idx="2"/>
          </p:cNvCxnSpPr>
          <p:nvPr/>
        </p:nvCxnSpPr>
        <p:spPr>
          <a:xfrm>
            <a:off x="2437920" y="29682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304" idx="3"/>
            <a:endCxn id="306" idx="2"/>
          </p:cNvCxnSpPr>
          <p:nvPr/>
        </p:nvCxnSpPr>
        <p:spPr>
          <a:xfrm flipV="1">
            <a:off x="2437920" y="2878920"/>
            <a:ext cx="184860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10" name=""/>
          <p:cNvGrpSpPr/>
          <p:nvPr/>
        </p:nvGrpSpPr>
        <p:grpSpPr>
          <a:xfrm>
            <a:off x="1143000" y="2514600"/>
            <a:ext cx="1295280" cy="906480"/>
            <a:chOff x="1143000" y="2514600"/>
            <a:chExt cx="1295280" cy="906480"/>
          </a:xfrm>
        </p:grpSpPr>
        <p:sp>
          <p:nvSpPr>
            <p:cNvPr id="304" name=""/>
            <p:cNvSpPr/>
            <p:nvPr/>
          </p:nvSpPr>
          <p:spPr>
            <a:xfrm>
              <a:off x="1143000" y="2514600"/>
              <a:ext cx="1295280" cy="9064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45400" y="281124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2" name=""/>
          <p:cNvCxnSpPr>
            <a:stCxn id="298" idx="1"/>
            <a:endCxn id="305" idx="6"/>
          </p:cNvCxnSpPr>
          <p:nvPr/>
        </p:nvCxnSpPr>
        <p:spPr>
          <a:xfrm flipH="1" flipV="1">
            <a:off x="2502000" y="1648800"/>
            <a:ext cx="58140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doXML adapter: What it doesn’t do (y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handle macros (will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yet roundtrip all non-Apollo data (e.g. feature_cvter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have appropriate datamodels inside Ap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beef up some datamodels, e.g. for synonyms (author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somewhat fly-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GAME XML schema description (game.r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-NG can represent elements that occur in any order but only o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 “start” and “end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late rng to xsd (less str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6680" y="4453560"/>
            <a:ext cx="5667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element name="annota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terleav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problem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ata type="boolea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attribu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optiona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attribute name="id"&g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aving of GAME and ChadoX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ed saving much f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s vs.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ave just annotations (and genomic residues) withou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515960" y="4152960"/>
            <a:ext cx="6112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nyms can now be deleted (as well as added or changed) in annot info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command-line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input (or output) filename or source and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es format if not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 UserName class an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Windows-only problem: mouse-over brought main window to fro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on Slenk of T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analysis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/layer raw computational analysis output (BLAST, BLAT, GENSCAN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analysis: from subject to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fly-centric ChadoXML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XML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JDBC writeback &amp;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ing Not As S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Und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synte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edi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ypes editor, incorporating Sequence Ontology (SO) ter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llo webst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Web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better query too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blank Ap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on particular region (Mozilla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from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876920" y="1676520"/>
            <a:ext cx="39621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 is 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 30, 2005: Apollo team runs out of money…unless grant application gets f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justification for grant: Apollo community describes how important Apollo is to thei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Apollo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idopsis Information Resource (T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curation of computatio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ote new data adapter (relational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e for Systems Biology, Seattle (Alistair Ru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ing putative transcription factor binding site predictions for various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British Columbia Bioinformatics Centre (UB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gasys computational pipeline-&gt; GAME -&gt; Apollo -&gt; manual cu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d write initial Chado JDBC adap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use Apollo in production annotation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ciumDB, Geno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GMOD software (Chado d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use Apollo for community annotation 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yBase Berke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zanna Lewis, Nomi Harris, Mark Gibson, Sima Mi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nming Wu, Scott C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contribu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nger Institute--Steve Searle, Michele Clamp, Vivek I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HMI--John Day-Ri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GR--Jonathan Cra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yBase--cu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69360" y="5485320"/>
            <a:ext cx="806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er available at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www.fruitfly.org/annot/apollo/install.htm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available at SourceForge: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http://sourceforge.net/projects/g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Roundtrip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5486400"/>
            <a:ext cx="1219320" cy="99072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790640"/>
            <a:ext cx="990720" cy="60984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6800" y="1752480"/>
            <a:ext cx="1371600" cy="6858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3021120"/>
            <a:ext cx="99072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9" idx="3"/>
            <a:endCxn id="61" idx="2"/>
          </p:cNvCxnSpPr>
          <p:nvPr/>
        </p:nvCxnSpPr>
        <p:spPr>
          <a:xfrm>
            <a:off x="7086600" y="3325320"/>
            <a:ext cx="57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2" name=""/>
          <p:cNvCxnSpPr>
            <a:stCxn id="57" idx="3"/>
            <a:endCxn id="58" idx="2"/>
          </p:cNvCxnSpPr>
          <p:nvPr/>
        </p:nvCxnSpPr>
        <p:spPr>
          <a:xfrm>
            <a:off x="3276720" y="2095200"/>
            <a:ext cx="460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58" idx="6"/>
            <a:endCxn id="59" idx="0"/>
          </p:cNvCxnSpPr>
          <p:nvPr/>
        </p:nvCxnSpPr>
        <p:spPr>
          <a:xfrm>
            <a:off x="5108040" y="2095200"/>
            <a:ext cx="1483560" cy="9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658280" y="3021120"/>
            <a:ext cx="838080" cy="6094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5" idx="0"/>
            <a:endCxn id="66" idx="4"/>
          </p:cNvCxnSpPr>
          <p:nvPr/>
        </p:nvCxnSpPr>
        <p:spPr>
          <a:xfrm flipH="1" flipV="1">
            <a:off x="1090080" y="2534760"/>
            <a:ext cx="5328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3730680" y="55274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8520" y="1641240"/>
            <a:ext cx="13845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94600" y="2871720"/>
            <a:ext cx="170532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6"/>
            <a:endCxn id="59" idx="1"/>
          </p:cNvCxnSpPr>
          <p:nvPr/>
        </p:nvCxnSpPr>
        <p:spPr>
          <a:xfrm>
            <a:off x="5272200" y="3325320"/>
            <a:ext cx="824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>
            <a:stCxn id="65" idx="1"/>
            <a:endCxn id="65" idx="2"/>
          </p:cNvCxnSpPr>
          <p:nvPr/>
        </p:nvCxnSpPr>
        <p:spPr>
          <a:xfrm>
            <a:off x="1904760" y="38095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>
            <a:stCxn id="65" idx="3"/>
            <a:endCxn id="68" idx="2"/>
          </p:cNvCxnSpPr>
          <p:nvPr/>
        </p:nvCxnSpPr>
        <p:spPr>
          <a:xfrm flipV="1">
            <a:off x="1904760" y="3324960"/>
            <a:ext cx="1716840" cy="48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2" name=""/>
          <p:cNvGrpSpPr/>
          <p:nvPr/>
        </p:nvGrpSpPr>
        <p:grpSpPr>
          <a:xfrm>
            <a:off x="380880" y="3276720"/>
            <a:ext cx="1523880" cy="1066680"/>
            <a:chOff x="380880" y="3276720"/>
            <a:chExt cx="1523880" cy="1066680"/>
          </a:xfrm>
        </p:grpSpPr>
        <p:sp>
          <p:nvSpPr>
            <p:cNvPr id="65" name=""/>
            <p:cNvSpPr/>
            <p:nvPr/>
          </p:nvSpPr>
          <p:spPr>
            <a:xfrm>
              <a:off x="380880" y="3276720"/>
              <a:ext cx="1523880" cy="1066680"/>
            </a:xfrm>
            <a:prstGeom prst="bevel">
              <a:avLst>
                <a:gd name="adj" fmla="val 125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6200" y="3625560"/>
              <a:ext cx="813240" cy="368280"/>
            </a:xfrm>
            <a:prstGeom prst="rect">
              <a:avLst/>
            </a:prstGeom>
            <a:solidFill>
              <a:srgbClr val="fbdf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ol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408840" y="4232160"/>
            <a:ext cx="2028960" cy="908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doT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5" idx="4"/>
            <a:endCxn id="74" idx="2"/>
          </p:cNvCxnSpPr>
          <p:nvPr/>
        </p:nvCxnSpPr>
        <p:spPr>
          <a:xfrm>
            <a:off x="1904760" y="3809520"/>
            <a:ext cx="1531080" cy="87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6" name=""/>
          <p:cNvCxnSpPr>
            <a:stCxn id="74" idx="6"/>
            <a:endCxn id="77" idx="1"/>
          </p:cNvCxnSpPr>
          <p:nvPr/>
        </p:nvCxnSpPr>
        <p:spPr>
          <a:xfrm>
            <a:off x="5410080" y="46861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endCxn id="67" idx="2"/>
          </p:cNvCxnSpPr>
          <p:nvPr/>
        </p:nvCxnSpPr>
        <p:spPr>
          <a:xfrm>
            <a:off x="1142640" y="4419360"/>
            <a:ext cx="2616840" cy="156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67" idx="6"/>
            <a:endCxn id="56" idx="2"/>
          </p:cNvCxnSpPr>
          <p:nvPr/>
        </p:nvCxnSpPr>
        <p:spPr>
          <a:xfrm>
            <a:off x="5086440" y="5981400"/>
            <a:ext cx="2381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5867280" y="4381560"/>
            <a:ext cx="1295640" cy="60948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doTr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7" idx="0"/>
            <a:endCxn id="61" idx="3"/>
          </p:cNvCxnSpPr>
          <p:nvPr/>
        </p:nvCxnSpPr>
        <p:spPr>
          <a:xfrm flipV="1">
            <a:off x="6515280" y="3540960"/>
            <a:ext cx="12657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57" idx="1"/>
            <a:endCxn id="66" idx="6"/>
          </p:cNvCxnSpPr>
          <p:nvPr/>
        </p:nvCxnSpPr>
        <p:spPr>
          <a:xfrm flipH="1">
            <a:off x="1753560" y="2095200"/>
            <a:ext cx="532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1" idx="4"/>
            <a:endCxn id="56" idx="1"/>
          </p:cNvCxnSpPr>
          <p:nvPr/>
        </p:nvCxnSpPr>
        <p:spPr>
          <a:xfrm>
            <a:off x="8076960" y="3630240"/>
            <a:ext cx="1080" cy="185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rovements Since Release 1.4.6 (July 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 JDBC ada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hadoXML adap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lected minor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Integrated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” DB has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peout &amp; insert” will have a hard time preserving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writeback does not affect non-Apoll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d objects are missing from saved data file—need transactions to keep track of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6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actions &amp; Write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44480" y="2843280"/>
            <a:ext cx="75096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47720" y="4953240"/>
            <a:ext cx="94032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18960" y="5728320"/>
            <a:ext cx="1899360" cy="821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291000" y="1511640"/>
            <a:ext cx="1815480" cy="116460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61800" y="5376960"/>
            <a:ext cx="1050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34800" y="5376960"/>
            <a:ext cx="1005480" cy="47628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1040" y="4013280"/>
            <a:ext cx="746280" cy="5806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47280" y="3810600"/>
            <a:ext cx="1241280" cy="82404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76120" y="3078360"/>
            <a:ext cx="124128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47480" y="4246560"/>
            <a:ext cx="777960" cy="58068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>
            <a:stCxn id="94" idx="3"/>
            <a:endCxn id="88" idx="2"/>
          </p:cNvCxnSpPr>
          <p:nvPr/>
        </p:nvCxnSpPr>
        <p:spPr>
          <a:xfrm flipV="1">
            <a:off x="1063440" y="3080880"/>
            <a:ext cx="611640" cy="12232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6"/>
            <a:endCxn id="95" idx="1"/>
          </p:cNvCxnSpPr>
          <p:nvPr/>
        </p:nvCxnSpPr>
        <p:spPr>
          <a:xfrm>
            <a:off x="2365200" y="3080880"/>
            <a:ext cx="975600" cy="114228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4" idx="3"/>
            <a:endCxn id="89" idx="2"/>
          </p:cNvCxnSpPr>
          <p:nvPr/>
        </p:nvCxnSpPr>
        <p:spPr>
          <a:xfrm>
            <a:off x="1063800" y="4303440"/>
            <a:ext cx="613440" cy="888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9" idx="6"/>
            <a:endCxn id="95" idx="1"/>
          </p:cNvCxnSpPr>
          <p:nvPr/>
        </p:nvCxnSpPr>
        <p:spPr>
          <a:xfrm flipV="1">
            <a:off x="2558880" y="4222440"/>
            <a:ext cx="781920" cy="96912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0" idx="0"/>
          </p:cNvCxnSpPr>
          <p:nvPr/>
        </p:nvCxnSpPr>
        <p:spPr>
          <a:xfrm>
            <a:off x="3968280" y="4640400"/>
            <a:ext cx="108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95" idx="0"/>
            <a:endCxn id="104" idx="2"/>
          </p:cNvCxnSpPr>
          <p:nvPr/>
        </p:nvCxnSpPr>
        <p:spPr>
          <a:xfrm flipV="1" rot="16200000">
            <a:off x="3319560" y="3156120"/>
            <a:ext cx="1291320" cy="684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95" idx="3"/>
            <a:endCxn id="91" idx="2"/>
          </p:cNvCxnSpPr>
          <p:nvPr/>
        </p:nvCxnSpPr>
        <p:spPr>
          <a:xfrm flipV="1">
            <a:off x="4595400" y="2093400"/>
            <a:ext cx="1723320" cy="21297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1" idx="4"/>
            <a:endCxn id="96" idx="0"/>
          </p:cNvCxnSpPr>
          <p:nvPr/>
        </p:nvCxnSpPr>
        <p:spPr>
          <a:xfrm rot="5400000">
            <a:off x="6993360" y="2867760"/>
            <a:ext cx="41004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6" idx="2"/>
          </p:cNvCxnSpPr>
          <p:nvPr/>
        </p:nvCxnSpPr>
        <p:spPr>
          <a:xfrm rot="5400000">
            <a:off x="6495480" y="3416040"/>
            <a:ext cx="454680" cy="950040"/>
          </a:xfrm>
          <a:prstGeom prst="bentConnector3">
            <a:avLst>
              <a:gd name="adj1" fmla="val 656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6" idx="2"/>
            <a:endCxn id="97" idx="0"/>
          </p:cNvCxnSpPr>
          <p:nvPr/>
        </p:nvCxnSpPr>
        <p:spPr>
          <a:xfrm flipH="1" rot="16200000">
            <a:off x="7328520" y="3532680"/>
            <a:ext cx="578520" cy="840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2"/>
            <a:endCxn id="92" idx="0"/>
          </p:cNvCxnSpPr>
          <p:nvPr/>
        </p:nvCxnSpPr>
        <p:spPr>
          <a:xfrm flipV="1" rot="10800000">
            <a:off x="6285960" y="5028840"/>
            <a:ext cx="1080" cy="362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2"/>
            <a:endCxn id="93" idx="0"/>
          </p:cNvCxnSpPr>
          <p:nvPr/>
        </p:nvCxnSpPr>
        <p:spPr>
          <a:xfrm flipV="1" rot="10800000">
            <a:off x="8036640" y="4832280"/>
            <a:ext cx="1080" cy="55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2" idx="4"/>
            <a:endCxn id="113" idx="2"/>
          </p:cNvCxnSpPr>
          <p:nvPr/>
        </p:nvCxnSpPr>
        <p:spPr>
          <a:xfrm flipH="1" rot="16200000">
            <a:off x="6309360" y="5815080"/>
            <a:ext cx="448560" cy="49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4"/>
            <a:endCxn id="113" idx="4"/>
          </p:cNvCxnSpPr>
          <p:nvPr/>
        </p:nvCxnSpPr>
        <p:spPr>
          <a:xfrm rot="5400000">
            <a:off x="7642080" y="5892120"/>
            <a:ext cx="448560" cy="342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781680" y="5943600"/>
            <a:ext cx="914400" cy="685800"/>
          </a:xfrm>
          <a:prstGeom prst="can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do 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600200"/>
            <a:ext cx="152388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interim s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4114800"/>
            <a:ext cx="1143000" cy="914400"/>
          </a:xfrm>
          <a:prstGeom prst="foldedCorner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ollo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159000"/>
            <a:ext cx="7772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fine grain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object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 (add, delete, upd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(gene, transcript, ex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part (none, comment, nam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“action” can result in man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9051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1943280"/>
            <a:ext cx="1066680" cy="6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43280"/>
            <a:ext cx="106668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8" idx="3"/>
            <a:endCxn id="117" idx="2"/>
          </p:cNvCxnSpPr>
          <p:nvPr/>
        </p:nvCxnSpPr>
        <p:spPr>
          <a:xfrm>
            <a:off x="2895480" y="2285640"/>
            <a:ext cx="991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7" idx="6"/>
            <a:endCxn id="119" idx="1"/>
          </p:cNvCxnSpPr>
          <p:nvPr/>
        </p:nvCxnSpPr>
        <p:spPr>
          <a:xfrm>
            <a:off x="5029200" y="2285640"/>
            <a:ext cx="91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esce Trans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er out redundant e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at commi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1676520"/>
            <a:ext cx="1143000" cy="7617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ales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14680"/>
            <a:ext cx="1067040" cy="685800"/>
          </a:xfrm>
          <a:prstGeom prst="rect">
            <a:avLst/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 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3"/>
            <a:endCxn id="124" idx="2"/>
          </p:cNvCxnSpPr>
          <p:nvPr/>
        </p:nvCxnSpPr>
        <p:spPr>
          <a:xfrm>
            <a:off x="4190760" y="2057040"/>
            <a:ext cx="9910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7:44:26Z</dcterms:created>
  <dc:creator>Mark Gibson</dc:creator>
  <dc:description/>
  <dc:language>en-US</dc:language>
  <cp:lastModifiedBy>Nomi Haris</cp:lastModifiedBy>
  <dcterms:modified xsi:type="dcterms:W3CDTF">2005-05-20T05:06:46Z</dcterms:modified>
  <cp:revision>312</cp:revision>
  <dc:subject/>
  <dc:title>Apollo progress</dc:title>
</cp:coreProperties>
</file>